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media/image1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FFA77-7435-4BCB-B405-5BCE9CDD0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98400" y="38149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B0CCB-CCB6-469B-BFF7-448FCD48C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840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108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A2187-50C8-401D-A5BD-BC7617E03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26400" y="166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954040" y="166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98400" y="3814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326400" y="3814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954040" y="3814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9FFA6-985D-43CD-A655-BBCEB794C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40410-996A-4D51-BD23-ED692A36E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08DBA-C59C-41A4-A507-7BAF286E9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658C5-93E9-4C03-9728-3AF6A79D8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095D3-D14A-4426-982C-DA12ED986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45263-566D-499A-A517-126177F00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85800" y="350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BD7E9-4C41-4AF4-985B-EC11A1E82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9840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777A7-5E69-4F57-AF4F-04F3F4EF0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6465F-2D11-4776-A9AA-965BCCE45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8108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AA18A-2CEE-4DF7-9234-0EB08FF9C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98400" y="38149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C7ECD-34CC-4195-BC7E-50ADC25B3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98400" y="38149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5CFCC-9684-4FCD-9642-843A79F6C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9840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8108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F7068-F83E-4F35-A041-E5B64C9B7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26400" y="166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954040" y="166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698400" y="3814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26400" y="3814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954040" y="3814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217A2-D028-4A40-AC08-70D836197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C0773-499D-4645-A835-DB295E3E0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D6A62-59AA-408A-A863-63E7420CF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4BDB5-CABB-4E4F-A2D0-56AE76152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85800" y="350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A6C12-332E-4663-AAA0-7CBCAAB78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840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8227D-408B-4AD3-8AF8-22A9BB554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108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FA11C-7EFA-488D-B5AE-E8BD22578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98400" y="38149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F8BAE-01C6-4BDB-9E85-A24D0D999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8160" y="-12600"/>
            <a:ext cx="9239400" cy="6940080"/>
            <a:chOff x="-38160" y="-12600"/>
            <a:chExt cx="9239400" cy="6940080"/>
          </a:xfrm>
        </p:grpSpPr>
        <p:sp>
          <p:nvSpPr>
            <p:cNvPr id="1" name=""/>
            <p:cNvSpPr/>
            <p:nvPr/>
          </p:nvSpPr>
          <p:spPr>
            <a:xfrm>
              <a:off x="8744040" y="-9360"/>
              <a:ext cx="455400" cy="6927840"/>
            </a:xfrm>
            <a:prstGeom prst="rect">
              <a:avLst/>
            </a:prstGeom>
            <a:gradFill rotWithShape="0">
              <a:gsLst>
                <a:gs pos="0">
                  <a:srgbClr val="0066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31680" y="-9360"/>
              <a:ext cx="457200" cy="6933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 flipV="1" rot="10800000">
              <a:off x="-16920" y="-12600"/>
              <a:ext cx="9204120" cy="457200"/>
            </a:xfrm>
            <a:custGeom>
              <a:avLst/>
              <a:gdLst>
                <a:gd name="textAreaLeft" fmla="*/ 1003320 w 9204120"/>
                <a:gd name="textAreaRight" fmla="*/ 8200800 w 9204120"/>
                <a:gd name="textAreaTop" fmla="*/ 49680 h 457200"/>
                <a:gd name="textAreaBottom" fmla="*/ 40752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511" y="21600"/>
                  </a:lnTo>
                  <a:lnTo>
                    <a:pt x="1089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>
              <a:off x="-37800" y="6466680"/>
              <a:ext cx="9239400" cy="460440"/>
            </a:xfrm>
            <a:custGeom>
              <a:avLst/>
              <a:gdLst>
                <a:gd name="textAreaLeft" fmla="*/ 1009800 w 9239400"/>
                <a:gd name="textAreaRight" fmla="*/ 8229600 w 9239400"/>
                <a:gd name="textAreaTop" fmla="*/ 50040 h 460440"/>
                <a:gd name="textAreaBottom" fmla="*/ 410400 h 460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500" y="21600"/>
                  </a:lnTo>
                  <a:lnTo>
                    <a:pt x="110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72880" y="282600"/>
              <a:ext cx="8623440" cy="63309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85800" y="61657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3124080" y="61657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6553080" y="61657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C026F-3EC1-498B-B815-34A3AF7514A0}" type="slidenum">
              <a:rPr b="0" lang="pl-P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-38160" y="-12600"/>
            <a:ext cx="9239400" cy="6940080"/>
            <a:chOff x="-38160" y="-12600"/>
            <a:chExt cx="9239400" cy="6940080"/>
          </a:xfrm>
        </p:grpSpPr>
        <p:sp>
          <p:nvSpPr>
            <p:cNvPr id="48" name=""/>
            <p:cNvSpPr/>
            <p:nvPr/>
          </p:nvSpPr>
          <p:spPr>
            <a:xfrm>
              <a:off x="8744040" y="-9360"/>
              <a:ext cx="455400" cy="6927840"/>
            </a:xfrm>
            <a:prstGeom prst="rect">
              <a:avLst/>
            </a:prstGeom>
            <a:gradFill rotWithShape="0">
              <a:gsLst>
                <a:gs pos="0">
                  <a:srgbClr val="0066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-31680" y="-9360"/>
              <a:ext cx="457200" cy="6933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 flipV="1" rot="10800000">
              <a:off x="-16920" y="-12600"/>
              <a:ext cx="9204120" cy="457200"/>
            </a:xfrm>
            <a:custGeom>
              <a:avLst/>
              <a:gdLst>
                <a:gd name="textAreaLeft" fmla="*/ 1003320 w 9204120"/>
                <a:gd name="textAreaRight" fmla="*/ 8200800 w 9204120"/>
                <a:gd name="textAreaTop" fmla="*/ 49680 h 457200"/>
                <a:gd name="textAreaBottom" fmla="*/ 40752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511" y="21600"/>
                  </a:lnTo>
                  <a:lnTo>
                    <a:pt x="1089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V="1">
              <a:off x="-37800" y="6466680"/>
              <a:ext cx="9239400" cy="460440"/>
            </a:xfrm>
            <a:custGeom>
              <a:avLst/>
              <a:gdLst>
                <a:gd name="textAreaLeft" fmla="*/ 1009800 w 9239400"/>
                <a:gd name="textAreaRight" fmla="*/ 8229600 w 9239400"/>
                <a:gd name="textAreaTop" fmla="*/ 50040 h 460440"/>
                <a:gd name="textAreaBottom" fmla="*/ 410400 h 460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500" y="21600"/>
                  </a:lnTo>
                  <a:lnTo>
                    <a:pt x="110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72880" y="282600"/>
              <a:ext cx="8623440" cy="63309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dt" idx="4"/>
          </p:nvPr>
        </p:nvSpPr>
        <p:spPr>
          <a:xfrm>
            <a:off x="698400" y="6154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ftr" idx="5"/>
          </p:nvPr>
        </p:nvSpPr>
        <p:spPr>
          <a:xfrm>
            <a:off x="3136680" y="6154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sldNum" idx="6"/>
          </p:nvPr>
        </p:nvSpPr>
        <p:spPr>
          <a:xfrm>
            <a:off x="6565680" y="615456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A2BEC-5AEC-4133-B147-DD4F2E2F875E}" type="slidenum">
              <a:rPr b="0" lang="pl-P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609480" y="3324240"/>
            <a:ext cx="8001000" cy="374760"/>
            <a:chOff x="609480" y="3324240"/>
            <a:chExt cx="8001000" cy="374760"/>
          </a:xfrm>
        </p:grpSpPr>
        <p:sp>
          <p:nvSpPr>
            <p:cNvPr id="58" name=""/>
            <p:cNvSpPr/>
            <p:nvPr/>
          </p:nvSpPr>
          <p:spPr>
            <a:xfrm>
              <a:off x="609480" y="3470400"/>
              <a:ext cx="8001000" cy="228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15960" y="3324240"/>
              <a:ext cx="7843680" cy="277920"/>
            </a:xfrm>
            <a:prstGeom prst="rect">
              <a:avLst/>
            </a:prstGeom>
            <a:gradFill rotWithShape="0">
              <a:gsLst>
                <a:gs pos="0">
                  <a:srgbClr val="e6dcac"/>
                </a:gs>
                <a:gs pos="100000">
                  <a:srgbClr val="e6dcac"/>
                </a:gs>
              </a:gsLst>
              <a:lin ang="13500000"/>
            </a:gradFill>
            <a:ln w="12600">
              <a:solidFill>
                <a:srgbClr val="cc99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22440" y="3394080"/>
              <a:ext cx="7840440" cy="0"/>
            </a:xfrm>
            <a:prstGeom prst="line">
              <a:avLst/>
            </a:prstGeom>
            <a:ln w="12600">
              <a:solidFill>
                <a:srgbClr val="cc99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22440" y="3470400"/>
              <a:ext cx="7840440" cy="0"/>
            </a:xfrm>
            <a:prstGeom prst="line">
              <a:avLst/>
            </a:prstGeom>
            <a:ln w="12600">
              <a:solidFill>
                <a:srgbClr val="cc99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22440" y="3546360"/>
              <a:ext cx="7840440" cy="0"/>
            </a:xfrm>
            <a:prstGeom prst="line">
              <a:avLst/>
            </a:prstGeom>
            <a:ln w="12600">
              <a:solidFill>
                <a:srgbClr val="cc99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22440" y="3379680"/>
              <a:ext cx="784044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22440" y="3456000"/>
              <a:ext cx="784044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22440" y="3532320"/>
              <a:ext cx="784044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cc66"/>
                </a:solidFill>
                <a:latin typeface="Times New Roman"/>
              </a:rPr>
              <a:t>ZANIECZYSZCZENIE  I  OCHRONA ŚRODOWISKA</a:t>
            </a:r>
            <a:endParaRPr b="0" lang="en-US" sz="5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533520" y="3492360"/>
            <a:ext cx="3429000" cy="288792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4343400" y="3505320"/>
            <a:ext cx="4267080" cy="2898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SPRZĄTANIE  ŚWIATA</a:t>
            </a:r>
            <a:br>
              <a:rPr sz="4400"/>
            </a:br>
            <a:r>
              <a:rPr b="1" lang="en-US" sz="2400" spc="-1" strike="noStrike">
                <a:solidFill>
                  <a:srgbClr val="ff0033"/>
                </a:solidFill>
                <a:latin typeface="Times New Roman"/>
              </a:rPr>
              <a:t>WRZESIEŃ KAŻDEGO ROKU</a:t>
            </a: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3665520" y="2773440"/>
            <a:ext cx="1411200" cy="1311120"/>
            <a:chOff x="3665520" y="2773440"/>
            <a:chExt cx="1411200" cy="1311120"/>
          </a:xfrm>
        </p:grpSpPr>
        <p:sp>
          <p:nvSpPr>
            <p:cNvPr id="142" name=""/>
            <p:cNvSpPr/>
            <p:nvPr/>
          </p:nvSpPr>
          <p:spPr>
            <a:xfrm>
              <a:off x="3665520" y="2773440"/>
              <a:ext cx="1411200" cy="13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143" name=""/>
            <p:cNvGrpSpPr/>
            <p:nvPr/>
          </p:nvGrpSpPr>
          <p:grpSpPr>
            <a:xfrm>
              <a:off x="3665520" y="2773440"/>
              <a:ext cx="1411200" cy="1311120"/>
              <a:chOff x="3665520" y="2773440"/>
              <a:chExt cx="1411200" cy="1311120"/>
            </a:xfrm>
          </p:grpSpPr>
          <p:sp>
            <p:nvSpPr>
              <p:cNvPr id="144" name=""/>
              <p:cNvSpPr/>
              <p:nvPr/>
            </p:nvSpPr>
            <p:spPr>
              <a:xfrm>
                <a:off x="3665520" y="2773440"/>
                <a:ext cx="1411200" cy="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grpSp>
            <p:nvGrpSpPr>
              <p:cNvPr id="145" name=""/>
              <p:cNvGrpSpPr/>
              <p:nvPr/>
            </p:nvGrpSpPr>
            <p:grpSpPr>
              <a:xfrm>
                <a:off x="3665520" y="2773440"/>
                <a:ext cx="1303200" cy="1311120"/>
                <a:chOff x="3665520" y="2773440"/>
                <a:chExt cx="1303200" cy="131112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3665520" y="2773440"/>
                  <a:ext cx="1303200" cy="1311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7" name=""/>
                <p:cNvGrpSpPr/>
                <p:nvPr/>
              </p:nvGrpSpPr>
              <p:grpSpPr>
                <a:xfrm>
                  <a:off x="3665520" y="2773440"/>
                  <a:ext cx="1303200" cy="1311120"/>
                  <a:chOff x="3665520" y="2773440"/>
                  <a:chExt cx="1303200" cy="1311120"/>
                </a:xfrm>
              </p:grpSpPr>
              <p:sp>
                <p:nvSpPr>
                  <p:cNvPr id="148" name=""/>
                  <p:cNvSpPr/>
                  <p:nvPr/>
                </p:nvSpPr>
                <p:spPr>
                  <a:xfrm>
                    <a:off x="3665520" y="2773440"/>
                    <a:ext cx="1303200" cy="36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sp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9" name=""/>
                  <p:cNvSpPr/>
                  <p:nvPr/>
                </p:nvSpPr>
                <p:spPr>
                  <a:xfrm>
                    <a:off x="3665520" y="2773440"/>
                    <a:ext cx="1303200" cy="13111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pl-PL" sz="2400" spc="-1" strike="noStrike">
                        <a:solidFill>
                          <a:srgbClr val="eaeaea"/>
                        </a:solidFill>
                        <a:latin typeface="Times New Roman"/>
                      </a:rPr>
                      <a:t>  </a:t>
                    </a:r>
                    <a:r>
                      <a:rPr b="0" lang="pl-PL" sz="5600" spc="-1" strike="noStrike">
                        <a:solidFill>
                          <a:srgbClr val="eaeaea"/>
                        </a:solidFill>
                        <a:latin typeface="Times New Roman"/>
                      </a:rPr>
                      <a:t> </a:t>
                    </a:r>
                    <a:r>
                      <a:rPr b="0" lang="pl-PL" sz="2400" spc="-1" strike="noStrike">
                        <a:solidFill>
                          <a:srgbClr val="eaeaea"/>
                        </a:solidFill>
                        <a:latin typeface="Times New Roman"/>
                      </a:rPr>
                      <a:t>                    </a:t>
                    </a:r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pic>
        <p:nvPicPr>
          <p:cNvPr id="150" name="" descr="Australia"/>
          <p:cNvPicPr/>
          <p:nvPr/>
        </p:nvPicPr>
        <p:blipFill>
          <a:blip r:embed="rId1"/>
          <a:stretch/>
        </p:blipFill>
        <p:spPr>
          <a:xfrm>
            <a:off x="3048120" y="2590920"/>
            <a:ext cx="2971800" cy="160956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3581280" y="4648320"/>
            <a:ext cx="1841760" cy="1625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-228600" y="-236520"/>
            <a:ext cx="9601200" cy="732312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609480" y="6400800"/>
            <a:ext cx="784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PREZENTACJĘ  WYKONAŁA  AGNIESZKA  CHATY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EKOSYSTEM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17680" y="11844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69960" y="1413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17680" y="11844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46280" y="148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857240" y="139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11" name="img011" descr=""/>
          <p:cNvPicPr/>
          <p:nvPr/>
        </p:nvPicPr>
        <p:blipFill>
          <a:blip r:embed="rId1"/>
          <a:srcRect l="3981" t="6660" r="0" b="0"/>
          <a:stretch/>
        </p:blipFill>
        <p:spPr>
          <a:xfrm>
            <a:off x="1143000" y="1371600"/>
            <a:ext cx="6905520" cy="502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50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PRZYCZYNY  ZANIECZYSZCZENIA ŚRODOWISKA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914400" y="68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14" name="img021" descr=""/>
          <p:cNvPicPr/>
          <p:nvPr/>
        </p:nvPicPr>
        <p:blipFill>
          <a:blip r:embed="rId1"/>
          <a:srcRect l="9577" t="26247" r="0" b="9534"/>
          <a:stretch/>
        </p:blipFill>
        <p:spPr>
          <a:xfrm>
            <a:off x="457200" y="1752480"/>
            <a:ext cx="8153280" cy="4343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PRZYCZYNY  ZANIECZYSZCZENIA ŚRODOWISKA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914400" y="68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17" name="img022" descr=""/>
          <p:cNvPicPr/>
          <p:nvPr/>
        </p:nvPicPr>
        <p:blipFill>
          <a:blip r:embed="rId1"/>
          <a:srcRect l="6250" t="23615" r="0" b="9724"/>
          <a:stretch/>
        </p:blipFill>
        <p:spPr>
          <a:xfrm>
            <a:off x="380880" y="1676520"/>
            <a:ext cx="8305920" cy="4592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PRZYCZYNY  ZANIECZYSZCZENIA ŚRODOWISKA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914400" y="68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20" name="img023" descr=""/>
          <p:cNvPicPr/>
          <p:nvPr/>
        </p:nvPicPr>
        <p:blipFill>
          <a:blip r:embed="rId1"/>
          <a:srcRect l="6250" t="23412" r="0" b="5761"/>
          <a:stretch/>
        </p:blipFill>
        <p:spPr>
          <a:xfrm>
            <a:off x="762120" y="1676520"/>
            <a:ext cx="7543800" cy="4576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HOMEOSTAZA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68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23" name="img018" descr=""/>
          <p:cNvPicPr/>
          <p:nvPr/>
        </p:nvPicPr>
        <p:blipFill>
          <a:blip r:embed="rId1"/>
          <a:srcRect l="5207" t="15801" r="0" b="2776"/>
          <a:stretch/>
        </p:blipFill>
        <p:spPr>
          <a:xfrm>
            <a:off x="914400" y="1600200"/>
            <a:ext cx="7391520" cy="4762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914400" y="68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25" name="img027" descr=""/>
          <p:cNvPicPr/>
          <p:nvPr/>
        </p:nvPicPr>
        <p:blipFill>
          <a:blip r:embed="rId1"/>
          <a:srcRect l="2776" t="0" r="0" b="7408"/>
          <a:stretch/>
        </p:blipFill>
        <p:spPr>
          <a:xfrm>
            <a:off x="609480" y="609480"/>
            <a:ext cx="800100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914400" y="68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27" name="img029" descr=""/>
          <p:cNvPicPr/>
          <p:nvPr/>
        </p:nvPicPr>
        <p:blipFill>
          <a:blip r:embed="rId1"/>
          <a:srcRect l="3125" t="5558" r="0" b="0"/>
          <a:stretch/>
        </p:blipFill>
        <p:spPr>
          <a:xfrm>
            <a:off x="457200" y="457200"/>
            <a:ext cx="8229600" cy="6016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47920" y="456840"/>
            <a:ext cx="6858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SEGREGACJA  ŚMIECI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862440" y="2219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30" name="pojemnik0" descr=""/>
          <p:cNvPicPr/>
          <p:nvPr/>
        </p:nvPicPr>
        <p:blipFill>
          <a:blip r:embed="rId1"/>
          <a:stretch/>
        </p:blipFill>
        <p:spPr>
          <a:xfrm>
            <a:off x="1143000" y="1828800"/>
            <a:ext cx="1419120" cy="241920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095720" y="2952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32" name="pojemnik1" descr=""/>
          <p:cNvPicPr/>
          <p:nvPr/>
        </p:nvPicPr>
        <p:blipFill>
          <a:blip r:embed="rId2"/>
          <a:stretch/>
        </p:blipFill>
        <p:spPr>
          <a:xfrm>
            <a:off x="5105520" y="2895480"/>
            <a:ext cx="952560" cy="95256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4148280" y="2952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34" name="pojemnik2" descr=""/>
          <p:cNvPicPr/>
          <p:nvPr/>
        </p:nvPicPr>
        <p:blipFill>
          <a:blip r:embed="rId3"/>
          <a:stretch/>
        </p:blipFill>
        <p:spPr>
          <a:xfrm>
            <a:off x="6019920" y="2895480"/>
            <a:ext cx="847440" cy="95256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4095720" y="2952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36" name="pojemnik3" descr=""/>
          <p:cNvPicPr/>
          <p:nvPr/>
        </p:nvPicPr>
        <p:blipFill>
          <a:blip r:embed="rId4"/>
          <a:stretch/>
        </p:blipFill>
        <p:spPr>
          <a:xfrm>
            <a:off x="6858000" y="2895480"/>
            <a:ext cx="952560" cy="95256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746280" y="5222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33520" y="4419720"/>
            <a:ext cx="2682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Tylko segregacja odpadów komunalnych może zmniejszyć ilość śmieci na wysypisku.</a:t>
            </a:r>
            <a:r>
              <a:rPr b="1" lang="en-US" sz="20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114800" y="4495680"/>
            <a:ext cx="42829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Zamiast wyrzucać śmieci gdziekolwiek, zbieraj do odpowiednich pojemników. To się na prawdę opłaca!</a:t>
            </a:r>
            <a:r>
              <a:rPr b="1" lang="en-US" sz="20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11T12:05:46Z</dcterms:created>
  <dc:creator>Chatys Agnieszka</dc:creator>
  <dc:description/>
  <dc:language>en-US</dc:language>
  <cp:lastModifiedBy>Roland</cp:lastModifiedBy>
  <dcterms:modified xsi:type="dcterms:W3CDTF">2003-08-18T09:37:22Z</dcterms:modified>
  <cp:revision>13</cp:revision>
  <dc:subject/>
  <dc:title>Prezentacja programu PowerPoint</dc:title>
</cp:coreProperties>
</file>